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550-FF18-4F93-8CEC-8B835278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193-F619-4666-ABA7-95582750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D81-E986-4F5C-884D-78112101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886-869B-48A0-BFED-35627998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3194-DDEE-49BF-B4F3-6BE26221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CCB4-B157-418C-97CC-B1B08782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4E8C-E86E-47C3-82A8-B6744D3E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64A0-7EE8-40BF-B78C-9460E88D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5BB5-E7F1-4493-A652-5327D50F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353A-0707-4FCA-A9DE-374307CD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AFE9-8910-44A4-933F-1E33D06C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28F-5488-461B-AA6C-45AD203B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570A-6FAE-4FA0-8E95-6E478C3A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BF62-074C-47BA-BF80-E2438260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7749-163E-4C0C-9433-32A8B122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C8D2-1537-4711-A26D-50032976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F5BE-818F-4D21-8BF9-72C7151E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4933C-FF15-4CC8-BCEE-6AE7C31F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CC52E-8372-4AF2-8CF3-38A55FD8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37A6C-174F-4270-A819-5045E7DF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035D-4968-496D-B6B6-7128A639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245EB-2B15-4144-9AFA-4F915178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F94-ADBB-4560-93A0-BFEE3FF5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04E7-1FF4-4949-8BA7-679AF651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1700-702A-4C6E-87F5-CCF45ED7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0404C-0AD5-45D7-B2E1-56ADB592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60D9-DCE3-4B4D-BCBF-41901391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ACB6-F2C1-4F8D-925E-EB8C363D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B6A0-8536-4F0C-9729-3C3237FC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70D8-56D1-4DD1-B1AC-9EC64277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162-73CA-4BB9-9405-DD6013C1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0A0-982B-4731-BB92-000491C0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945-A53F-4F4E-B479-E4551DF4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B15-59E0-42BE-8E0D-822FEF83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51A-59DB-4109-BE68-1770CE6D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14E-2407-435E-B74A-41D69BE5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7AD1-E48F-466B-B7B2-924C1C861F5D}" type="slidenum">
              <a:rPr b="1" lang="en-US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793D-84CF-4210-A3AE-B04F10E0311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A1E5-601F-416D-867C-1B92B3686F1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Economiccollapse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Arial Black"/>
              </a:rPr>
              <a:t>Alejandres gann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282e"/>
                </a:solidFill>
                <a:latin typeface="Arial Black"/>
              </a:rPr>
              <a:t>UC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2. Collapse now better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we delay the harder we f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 – collapse now allows it to bounce b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dset shift – collapse now trigger by consumption/production cycles causes shift a cultural norms for sustainable li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3. Transition wa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n’t happen because there aren’t any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ft will be peaceful because pitted against globalization and industria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consumption patterns means people inclined to accept living on less and consuming l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ns vs bu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4. Ecology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rewards environmental destruction, profit motive means being less concerned with the global comm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urages wasteful use of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orld displa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can’t solve species extinction and so far as failed us against war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doesn’t change consumption patterns which is necessary in the long te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5. Possibility of conflic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s because countries turn inw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ar war won’t cause extinction but environmental collapse do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Defeating the impact turn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1) Sustainability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– poor economy draws entrepreneurs to think of solutions which makes ecologically sustainable living eas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ions – self-correcting factors change investor calculations because survival is profi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s growing more abund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s switch to more economically sustainable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2) Collapse now wors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pse is not inevi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or cause of collapse mat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w consum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kes the collapse sever and that’s what’s happening with the current colla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ck of job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s rally around the flag eff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3) Transition war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ries lash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ions still die…and that’s b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-term internal link turn to all their imp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4) Ecology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al Kuznet’s Cur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ment goes towards countries that have environmental regulations because poor countries are too preoccupied with survi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5) Possibility of conflic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’s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collapse causes wars and wars turn and outweigh environmental concer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Internal Link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auses the economy to collapse matters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nner in which it colla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ype of colla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 internal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vs global econom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cit spending/government de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indust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cal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Winning the impact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Winning the Impac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perate times call for desperate measures, economic collapse incentivizes wars and aggr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portunistic w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ative w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lly around the flag eff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w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economy means more trade and inter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of an incentive to wage war when living conditions are f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Defeating the Impac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nitude of the internal link – what causes the economy to collapse determines the style, extent, and response to colla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rical examples of economic colla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vs relative colla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s and wars are expen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ries turn inw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ssion causes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the imp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Impact turn debate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Relevant factors for both side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vs l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tion w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logy/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ility of long-term conflict or pe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Winning the impact tur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autho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d Trai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 Lew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en Bar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hard Dunc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1. Sustainability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pse inevitable due to consumption patter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’s 8% growth rate and doubling every 9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pse inevitable due to production patter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only get diminishing returns and not everything has substit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15:16:26Z</dcterms:created>
  <dc:creator>Andres</dc:creator>
  <dc:description/>
  <dc:language>en-US</dc:language>
  <cp:lastModifiedBy>The Adams Family</cp:lastModifiedBy>
  <dcterms:modified xsi:type="dcterms:W3CDTF">2012-08-29T13:12:35Z</dcterms:modified>
  <cp:revision>3</cp:revision>
  <dc:subject/>
  <dc:title>Economiccollapse</dc:title>
</cp:coreProperties>
</file>